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2711-C975-411D-8EF1-413C2D09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8640" y="262836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69B7-FE9D-4F70-969C-67A7B8B1D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31800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CDFE-7E40-4B88-8B70-0C8374B3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520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24176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864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533520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724176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6289-44C1-41C6-8D85-15B2E60ED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F081-9105-42FD-8D6A-6BD69F07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62A3-57EB-4138-BDF3-1E9B97F1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D37C-9201-4E7C-88F1-0FF41CFE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AFBB-F95E-41D1-9991-96FA568D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5682-16E9-461B-B8F8-9FC4C4C8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8947-7D41-4E7C-BFF0-79025381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43E1-5E6E-483F-BD97-0D5B8672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1899-BAD5-4D8A-A960-85E1D3BA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31800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0CB2-6A36-4D63-A3F3-AC6EF82C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5173-FE57-423C-B8C1-1C7D0434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8640" y="262836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914E-2418-4960-8515-C318ACF7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31800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CD0C-ABE8-4C6B-8B1A-D448EDD5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3520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7241760" y="208584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42864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533520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7241760" y="2628360"/>
            <a:ext cx="1815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4983-87AE-4D86-9605-06FF6765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7E14-CF14-4D26-855C-A6A342A2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5C3C-BC72-4F2C-9EF5-2E444CCD4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8BB0-50F6-4C06-875D-E158322E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9384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AA7F-5346-4DC5-8A23-2AA798A6F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B96E-DE4E-49D9-ACD3-6EA9B96B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103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18000" y="262836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601-7444-4921-BD05-EFCBC002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864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18000" y="2085840"/>
            <a:ext cx="27514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8640" y="2628360"/>
            <a:ext cx="5638680" cy="49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D30-4637-48EB-9E13-5E096039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AD70-74E5-4BFE-A116-1539AB558339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2C34-B531-4FF3-8492-BB248E987E68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701676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Colegio Bilingüe de Palmares</a:t>
            </a:r>
            <a:br>
              <a:rPr sz="3600"/>
            </a:br>
            <a:r>
              <a:rPr b="0" lang="es-ES_tradnl" sz="3600" spc="-1" strike="noStrike">
                <a:solidFill>
                  <a:srgbClr val="ffcc66"/>
                </a:solidFill>
                <a:latin typeface="Arial"/>
              </a:rPr>
              <a:t>TISG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7636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Times New Roman"/>
              </a:rPr>
              <a:t>Cuestiones sociales y ét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cc66"/>
                </a:solidFill>
                <a:latin typeface="Times New Roman"/>
              </a:rPr>
              <a:t>Valor económico de la información</a:t>
            </a:r>
            <a:r>
              <a:rPr b="0" lang="es-MX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588000" y="189000"/>
            <a:ext cx="2292480" cy="87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D0A6-DCFA-4A34-9F5C-78E878BCDBF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strella Córdoba Bogant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4360" y="1197000"/>
            <a:ext cx="784836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urante miles de años la tierra dedicada a la agricul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ejemplo: para ellos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 saber con anticipación el pronóstico metereológico, la posibilidad o no de lluvias tiene valor económico pues lo llevará a hacer una mejor planificación de su activid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Después de la primera revolución industri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El conocimiento ocupa el lugar de los dos anteriores. Es la era de la información, donde lo principal es la habilidad para desarrollar y manipular conocimient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Por ejemplo se puede comprar o vender, en este caso por internet. Las compras en lín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D83F1-227F-4C71-9744-1D850073047A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strella Córdoba Bogant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4360" y="1197000"/>
            <a:ext cx="7848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Actualmente dependemos mucho de las computadoras; pero para que una información  tenga valor ella deberá reunir ciertas condicion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ebe ser exact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ebe ser información verificabl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ebe estar disponible en el momento precis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ebe estar organizada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La información deberá ser accesible cuando aquellos que deban tomar decisiones la necesit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La información debe ser útil, es decir tener un significado, para la persona que la recib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• 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La información debe ser costo-efectiva</a:t>
            </a:r>
            <a:r>
              <a:rPr b="0" lang="es-MX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1B82-AFD6-4F8E-9C7C-D563E1BA0166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Estrella Córdoba Bogant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20:57:36Z</dcterms:created>
  <dc:creator>Estrella Córdoba Bogantes </dc:creator>
  <dc:description/>
  <dc:language>en-US</dc:language>
  <cp:lastModifiedBy>Estrella Córdoba Bogantes </cp:lastModifiedBy>
  <dcterms:modified xsi:type="dcterms:W3CDTF">2009-03-19T16:23:38Z</dcterms:modified>
  <cp:revision>10</cp:revision>
  <dc:subject/>
  <dc:title>Diapositiva 1</dc:title>
</cp:coreProperties>
</file>